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7724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66C9-74BF-409B-8FC2-F22C2481D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800" y="581400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3AE5-E6F7-4478-B6E9-86F6280B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296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B198-DF95-47BD-8791-FDADE1ECE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540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19200" y="234612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8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540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19200" y="5814000"/>
            <a:ext cx="2252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A014-7105-47C6-9B17-76C97B9E7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13B0-2A5F-41FF-B713-C6B0DF84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E62A-E3AE-400F-B534-F6FC8B59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EA3C-4D0E-4578-8E2C-0102F864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2529-EE23-445A-8BB1-B2979492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800" y="402840"/>
            <a:ext cx="69948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5D3A-EDB1-416D-B297-A69F4262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116D-015C-49F2-B6D8-80431DAE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2960" y="581400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8E19-4776-4B9A-82D2-C15B3461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80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2960" y="2346120"/>
            <a:ext cx="341316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800" y="5814000"/>
            <a:ext cx="6994800" cy="31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6F25-1C78-4B69-BC1F-A2B48857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800" y="402840"/>
            <a:ext cx="6994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800" y="2346120"/>
            <a:ext cx="6994800" cy="66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43000"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193680"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360440" indent="-195120"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749600" indent="-195480">
              <a:spcBef>
                <a:spcPts val="56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749600" indent="-195480">
              <a:spcBef>
                <a:spcPts val="56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749600" indent="-195480">
              <a:spcBef>
                <a:spcPts val="56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8800" y="9159840"/>
            <a:ext cx="1812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5720" y="9159840"/>
            <a:ext cx="2460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70640" y="9159840"/>
            <a:ext cx="181296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856B-3CF3-4E8C-9A25-4040DF4E2A02}" type="slidenum">
              <a:rPr b="0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-20520" y="1407960"/>
            <a:ext cx="7772400" cy="736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rc 5"/>
          <p:cNvSpPr/>
          <p:nvPr/>
        </p:nvSpPr>
        <p:spPr>
          <a:xfrm rot="2727000">
            <a:off x="4297320" y="3481200"/>
            <a:ext cx="3362040" cy="3308400"/>
          </a:xfrm>
          <a:custGeom>
            <a:avLst/>
            <a:gdLst/>
            <a:ahLst/>
            <a:rect l="l" t="t" r="r" b="b"/>
            <a:pathLst>
              <a:path fill="none" w="21640" h="21600">
                <a:moveTo>
                  <a:pt x="0" y="0"/>
                </a:moveTo>
                <a:cubicBezTo>
                  <a:pt x="13" y="0"/>
                  <a:pt x="26" y="-1"/>
                  <a:pt x="40" y="0"/>
                </a:cubicBezTo>
                <a:cubicBezTo>
                  <a:pt x="11953" y="0"/>
                  <a:pt x="21617" y="9646"/>
                  <a:pt x="21639" y="21560"/>
                </a:cubicBezTo>
              </a:path>
              <a:path stroke="0" w="21640" h="21600">
                <a:moveTo>
                  <a:pt x="0" y="0"/>
                </a:moveTo>
                <a:cubicBezTo>
                  <a:pt x="13" y="0"/>
                  <a:pt x="26" y="-1"/>
                  <a:pt x="40" y="0"/>
                </a:cubicBezTo>
                <a:cubicBezTo>
                  <a:pt x="11953" y="0"/>
                  <a:pt x="21617" y="9646"/>
                  <a:pt x="21639" y="21560"/>
                </a:cubicBezTo>
                <a:lnTo>
                  <a:pt x="4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rc 6"/>
          <p:cNvSpPr/>
          <p:nvPr/>
        </p:nvSpPr>
        <p:spPr>
          <a:xfrm rot="2745000">
            <a:off x="1928520" y="5760720"/>
            <a:ext cx="3352680" cy="3375000"/>
          </a:xfrm>
          <a:custGeom>
            <a:avLst/>
            <a:gdLst/>
            <a:ahLst/>
            <a:rect l="l" t="t" r="r" b="b"/>
            <a:pathLst>
              <a:path fill="none" w="21640" h="21640">
                <a:moveTo>
                  <a:pt x="21639" y="0"/>
                </a:moveTo>
                <a:cubicBezTo>
                  <a:pt x="21639" y="13"/>
                  <a:pt x="21640" y="26"/>
                  <a:pt x="21640" y="40"/>
                </a:cubicBezTo>
                <a:cubicBezTo>
                  <a:pt x="21640" y="11969"/>
                  <a:pt x="11969" y="21640"/>
                  <a:pt x="40" y="21640"/>
                </a:cubicBezTo>
                <a:cubicBezTo>
                  <a:pt x="26" y="21640"/>
                  <a:pt x="13" y="21639"/>
                  <a:pt x="0" y="21639"/>
                </a:cubicBezTo>
              </a:path>
              <a:path stroke="0" w="21640" h="21640">
                <a:moveTo>
                  <a:pt x="21639" y="0"/>
                </a:moveTo>
                <a:cubicBezTo>
                  <a:pt x="21639" y="13"/>
                  <a:pt x="21640" y="26"/>
                  <a:pt x="21640" y="40"/>
                </a:cubicBezTo>
                <a:cubicBezTo>
                  <a:pt x="21640" y="11969"/>
                  <a:pt x="11969" y="21640"/>
                  <a:pt x="40" y="21640"/>
                </a:cubicBezTo>
                <a:cubicBezTo>
                  <a:pt x="26" y="21640"/>
                  <a:pt x="13" y="21639"/>
                  <a:pt x="0" y="21639"/>
                </a:cubicBezTo>
                <a:lnTo>
                  <a:pt x="40" y="40"/>
                </a:lnTo>
                <a:lnTo>
                  <a:pt x="21639" y="0"/>
                </a:lnTo>
                <a:close/>
              </a:path>
            </a:pathLst>
          </a:custGeom>
          <a:solidFill>
            <a:srgbClr val="92d05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rc 7"/>
          <p:cNvSpPr/>
          <p:nvPr/>
        </p:nvSpPr>
        <p:spPr>
          <a:xfrm rot="2740200">
            <a:off x="-237960" y="3444840"/>
            <a:ext cx="3165480" cy="3381120"/>
          </a:xfrm>
          <a:custGeom>
            <a:avLst/>
            <a:gdLst/>
            <a:ahLst/>
            <a:rect l="l" t="t" r="r" b="b"/>
            <a:pathLst>
              <a:path fill="none" w="21600" h="21640">
                <a:moveTo>
                  <a:pt x="21560" y="21639"/>
                </a:moveTo>
                <a:cubicBezTo>
                  <a:pt x="9646" y="21617"/>
                  <a:pt x="0" y="11953"/>
                  <a:pt x="0" y="40"/>
                </a:cubicBezTo>
                <a:cubicBezTo>
                  <a:pt x="-1" y="26"/>
                  <a:pt x="0" y="13"/>
                  <a:pt x="0" y="0"/>
                </a:cubicBezTo>
              </a:path>
              <a:path stroke="0" w="21600" h="21640">
                <a:moveTo>
                  <a:pt x="21560" y="21639"/>
                </a:moveTo>
                <a:cubicBezTo>
                  <a:pt x="9646" y="21617"/>
                  <a:pt x="0" y="11953"/>
                  <a:pt x="0" y="40"/>
                </a:cubicBezTo>
                <a:cubicBezTo>
                  <a:pt x="-1" y="26"/>
                  <a:pt x="0" y="13"/>
                  <a:pt x="0" y="0"/>
                </a:cubicBezTo>
                <a:lnTo>
                  <a:pt x="21600" y="40"/>
                </a:lnTo>
                <a:lnTo>
                  <a:pt x="21560" y="21639"/>
                </a:lnTo>
                <a:close/>
              </a:path>
            </a:pathLst>
          </a:custGeom>
          <a:solidFill>
            <a:srgbClr val="ff99cc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rc 8"/>
          <p:cNvSpPr/>
          <p:nvPr/>
        </p:nvSpPr>
        <p:spPr>
          <a:xfrm rot="2738400">
            <a:off x="2138040" y="1162080"/>
            <a:ext cx="3165480" cy="33051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21560"/>
                </a:moveTo>
                <a:cubicBezTo>
                  <a:pt x="22" y="9661"/>
                  <a:pt x="9661" y="22"/>
                  <a:pt x="21560" y="0"/>
                </a:cubicBezTo>
              </a:path>
              <a:path stroke="0" w="21600" h="21600">
                <a:moveTo>
                  <a:pt x="0" y="21560"/>
                </a:moveTo>
                <a:cubicBezTo>
                  <a:pt x="22" y="9661"/>
                  <a:pt x="9661" y="22"/>
                  <a:pt x="21560" y="0"/>
                </a:cubicBezTo>
                <a:lnTo>
                  <a:pt x="21600" y="21600"/>
                </a:lnTo>
                <a:lnTo>
                  <a:pt x="0" y="21560"/>
                </a:lnTo>
                <a:close/>
              </a:path>
            </a:pathLst>
          </a:custGeom>
          <a:solidFill>
            <a:srgbClr val="ffff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2973240" y="4421160"/>
            <a:ext cx="1341720" cy="1339920"/>
          </a:xfrm>
          <a:custGeom>
            <a:avLst/>
            <a:gdLst/>
            <a:ahLst/>
            <a:rect l="l" t="t" r="r" b="b"/>
            <a:pathLst>
              <a:path w="1341437" h="1339850">
                <a:moveTo>
                  <a:pt x="1" y="511776"/>
                </a:moveTo>
                <a:lnTo>
                  <a:pt x="512386" y="511779"/>
                </a:lnTo>
                <a:lnTo>
                  <a:pt x="670719" y="0"/>
                </a:lnTo>
                <a:lnTo>
                  <a:pt x="829051" y="511779"/>
                </a:lnTo>
                <a:lnTo>
                  <a:pt x="1341436" y="511776"/>
                </a:lnTo>
                <a:lnTo>
                  <a:pt x="926906" y="828069"/>
                </a:lnTo>
                <a:lnTo>
                  <a:pt x="1085244" y="1339847"/>
                </a:lnTo>
                <a:lnTo>
                  <a:pt x="670719" y="1023547"/>
                </a:lnTo>
                <a:lnTo>
                  <a:pt x="256193" y="1339847"/>
                </a:lnTo>
                <a:lnTo>
                  <a:pt x="414531" y="828069"/>
                </a:lnTo>
                <a:lnTo>
                  <a:pt x="1" y="51177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2554200" y="2697120"/>
            <a:ext cx="233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PIRI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2535120" y="6910560"/>
            <a:ext cx="229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-76320" y="227160"/>
            <a:ext cx="74390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000000"/>
                </a:solidFill>
                <a:latin typeface="Calibri"/>
                <a:ea typeface="Calibri"/>
              </a:rPr>
              <a:t>A BAHÁ’Í LIFE IN DYNAMIC HARMON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000000"/>
                </a:solidFill>
                <a:latin typeface="Arial"/>
              </a:rPr>
              <a:t>A Wholistic Program for Personal Develop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Text Box 2" descr=""/>
          <p:cNvPicPr/>
          <p:nvPr/>
        </p:nvPicPr>
        <p:blipFill>
          <a:blip r:embed="rId1"/>
          <a:stretch/>
        </p:blipFill>
        <p:spPr>
          <a:xfrm>
            <a:off x="500040" y="4730760"/>
            <a:ext cx="2298600" cy="8589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 rot="16200000">
            <a:off x="5119920" y="4041360"/>
            <a:ext cx="1155240" cy="21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SYCHO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012680" y="9080640"/>
            <a:ext cx="529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m. Keith Bookwalter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0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1T00:35:17Z</dcterms:created>
  <dc:creator>Aaron Bookwalter</dc:creator>
  <dc:description/>
  <dc:language>en-US</dc:language>
  <cp:lastModifiedBy>Keith Bookwalter</cp:lastModifiedBy>
  <dcterms:modified xsi:type="dcterms:W3CDTF">2025-03-28T17:04:27Z</dcterms:modified>
  <cp:revision>18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635</vt:lpwstr>
  </property>
</Properties>
</file>