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C8C-A9C3-47DB-9D5C-9628D2CF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5F1-0C52-4E86-83FD-C74D05A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5C4-91AA-48EB-BA42-C28F44C4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08C-9373-4B95-8C1A-9DAC96E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637-ADF9-4B87-9F98-BF6A9930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AB5-62AB-4F04-A478-37EBA2D7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EEA-221F-4EA9-B498-437D1600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D94-6CDD-4A30-9E4B-2F71A9D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E4B-6F01-4DC6-BD95-35A4743A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5DD-28BA-4ED8-BF7C-83472442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EF5-071B-4298-8BA3-44F697D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236-B9CD-402C-AB8C-01B5CD8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440" y="8331120"/>
            <a:ext cx="142848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87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D41700-642D-4255-BBBD-5FF8CAABD76A}" type="slidenum">
              <a:rPr b="0" lang="es-ES_tradnl" sz="187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1057320"/>
            <a:ext cx="6860160" cy="7009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Arc 7"/>
          <p:cNvSpPr/>
          <p:nvPr/>
        </p:nvSpPr>
        <p:spPr>
          <a:xfrm rot="2578800">
            <a:off x="-70560" y="3108960"/>
            <a:ext cx="2956320" cy="2927880"/>
          </a:xfrm>
          <a:custGeom>
            <a:avLst/>
            <a:gdLst>
              <a:gd name="textAreaLeft" fmla="*/ 0 w 2956320"/>
              <a:gd name="textAreaRight" fmla="*/ 2956680 w 2956320"/>
              <a:gd name="textAreaTop" fmla="*/ 0 h 2927880"/>
              <a:gd name="textAreaBottom" fmla="*/ 2928240 h 2927880"/>
            </a:gdLst>
            <a:ahLst/>
            <a:rect l="textAreaLeft" t="textAreaTop" r="textAreaRight" b="textAreaBottom"/>
            <a:pathLst>
              <a:path fill="none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</a:path>
              <a:path stroke="0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  <a:lnTo>
                  <a:pt x="21600" y="40"/>
                </a:lnTo>
                <a:lnTo>
                  <a:pt x="21560" y="21639"/>
                </a:lnTo>
                <a:close/>
              </a:path>
            </a:pathLst>
          </a:custGeom>
          <a:solidFill>
            <a:srgbClr val="ff99cc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rc 5"/>
          <p:cNvSpPr/>
          <p:nvPr/>
        </p:nvSpPr>
        <p:spPr>
          <a:xfrm rot="2444400">
            <a:off x="3960360" y="2949480"/>
            <a:ext cx="2962800" cy="2905920"/>
          </a:xfrm>
          <a:custGeom>
            <a:avLst/>
            <a:gdLst>
              <a:gd name="textAreaLeft" fmla="*/ 0 w 2962800"/>
              <a:gd name="textAreaRight" fmla="*/ 2963160 w 2962800"/>
              <a:gd name="textAreaTop" fmla="*/ 0 h 2905920"/>
              <a:gd name="textAreaBottom" fmla="*/ 2906280 h 2905920"/>
            </a:gdLst>
            <a:ahLst/>
            <a:rect l="textAreaLeft" t="textAreaTop" r="textAreaRight" b="textAreaBottom"/>
            <a:pathLst>
              <a:path fill="none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</a:path>
              <a:path stroke="0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  <a:lnTo>
                  <a:pt x="4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rc 6"/>
          <p:cNvSpPr/>
          <p:nvPr/>
        </p:nvSpPr>
        <p:spPr>
          <a:xfrm rot="2512800">
            <a:off x="2072880" y="5081760"/>
            <a:ext cx="2961000" cy="2912040"/>
          </a:xfrm>
          <a:custGeom>
            <a:avLst/>
            <a:gdLst>
              <a:gd name="textAreaLeft" fmla="*/ 0 w 2961000"/>
              <a:gd name="textAreaRight" fmla="*/ 2961360 w 2961000"/>
              <a:gd name="textAreaTop" fmla="*/ 0 h 2912040"/>
              <a:gd name="textAreaBottom" fmla="*/ 2912400 h 2912040"/>
            </a:gdLst>
            <a:ahLst/>
            <a:rect l="textAreaLeft" t="textAreaTop" r="textAreaRight" b="textAreaBottom"/>
            <a:pathLst>
              <a:path fill="none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</a:path>
              <a:path stroke="0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  <a:lnTo>
                  <a:pt x="40" y="40"/>
                </a:lnTo>
                <a:lnTo>
                  <a:pt x="21639" y="0"/>
                </a:lnTo>
                <a:close/>
              </a:path>
            </a:pathLst>
          </a:custGeom>
          <a:solidFill>
            <a:srgbClr val="92d050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92d050"/>
              </a:solidFill>
              <a:latin typeface="Times New Roman"/>
            </a:endParaRPr>
          </a:p>
        </p:txBody>
      </p:sp>
      <p:sp>
        <p:nvSpPr>
          <p:cNvPr id="43" name="Arc 8"/>
          <p:cNvSpPr/>
          <p:nvPr/>
        </p:nvSpPr>
        <p:spPr>
          <a:xfrm rot="2605800">
            <a:off x="1878840" y="1063080"/>
            <a:ext cx="2958840" cy="2905920"/>
          </a:xfrm>
          <a:custGeom>
            <a:avLst/>
            <a:gdLst>
              <a:gd name="textAreaLeft" fmla="*/ 0 w 2958840"/>
              <a:gd name="textAreaRight" fmla="*/ 2959200 w 2958840"/>
              <a:gd name="textAreaTop" fmla="*/ 0 h 2905920"/>
              <a:gd name="textAreaBottom" fmla="*/ 2906280 h 29059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</a:path>
              <a:path stroke="0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  <a:lnTo>
                  <a:pt x="21600" y="21600"/>
                </a:lnTo>
                <a:lnTo>
                  <a:pt x="0" y="21560"/>
                </a:lnTo>
                <a:close/>
              </a:path>
            </a:pathLst>
          </a:custGeom>
          <a:solidFill>
            <a:srgbClr val="ffff00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"/>
          <p:cNvSpPr/>
          <p:nvPr/>
        </p:nvSpPr>
        <p:spPr>
          <a:xfrm rot="21444000">
            <a:off x="2842560" y="3956400"/>
            <a:ext cx="1218960" cy="12189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Fernando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1955880" y="1186200"/>
            <a:ext cx="294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6307560" y="2474640"/>
            <a:ext cx="5076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69440" y="111960"/>
            <a:ext cx="5803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pendi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ersal LDH Medicine Wh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1527120" y="2791440"/>
            <a:ext cx="3758760" cy="355572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2976120" y="1823760"/>
            <a:ext cx="8622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Teach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850200" y="2265120"/>
            <a:ext cx="13194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Holy Day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Group Worship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677240" y="2154240"/>
            <a:ext cx="1412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Tithing /  Char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2734920" y="2960640"/>
            <a:ext cx="134244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Fast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Medit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Scripture Stud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670680" y="3688560"/>
            <a:ext cx="8517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Friend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88880" y="4304520"/>
            <a:ext cx="1037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1080720" y="5792040"/>
            <a:ext cx="8424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Socie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899240" y="3119400"/>
            <a:ext cx="8424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5234040" y="4294080"/>
            <a:ext cx="1116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250" spc="-1" strike="noStrike">
                <a:solidFill>
                  <a:srgbClr val="000000"/>
                </a:solidFill>
                <a:latin typeface="Arial"/>
              </a:rPr>
              <a:t>Vocational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25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5143320" y="5425560"/>
            <a:ext cx="88992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4407480" y="6326280"/>
            <a:ext cx="71892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3119040" y="6760440"/>
            <a:ext cx="5742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1879920" y="6286680"/>
            <a:ext cx="8226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Care of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3079080" y="5163840"/>
            <a:ext cx="83340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Leisur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Res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547280" y="4078440"/>
            <a:ext cx="14583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1" lang="es-ES_tradnl" sz="134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Self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Natur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Spous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Childre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- Famil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3842640" y="4059720"/>
            <a:ext cx="1500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Medit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Goal-Sett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25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1198800" y="8318160"/>
            <a:ext cx="4719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fe in Dynamic Har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662040" y="5038920"/>
            <a:ext cx="10375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35280" y="3668400"/>
            <a:ext cx="507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771840" y="3114720"/>
            <a:ext cx="1284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mun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2602800" y="7527600"/>
            <a:ext cx="168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66"/>
              </a:spcBef>
              <a:spcAft>
                <a:spcPts val="666"/>
              </a:spcAf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  <Words>94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15:59:55Z</dcterms:created>
  <dc:creator>Pc</dc:creator>
  <dc:description/>
  <dc:language>en-US</dc:language>
  <cp:lastModifiedBy>Keith Bookwalter</cp:lastModifiedBy>
  <dcterms:modified xsi:type="dcterms:W3CDTF">2025-03-28T19:45:26Z</dcterms:modified>
  <cp:revision>1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Letter Paper (8.5x11 in)</vt:lpwstr>
  </property>
  <property fmtid="{D5CDD505-2E9C-101B-9397-08002B2CF9AE}" pid="3" name="Slides">
    <vt:r8>1</vt:r8>
  </property>
</Properties>
</file>