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09B-C081-4F32-B275-3B02DBD4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FDD-299D-4FD9-B4DE-41859775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A45-9A39-47F4-B4C5-229B9B85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838-4E84-4E49-B8CE-40FF8DA1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076-8412-4D35-9168-359577B9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76E-FDAA-472A-9C17-CBA8040B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E45-0866-4A68-BD9B-EFEF5A0C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F8E-A2C2-45B6-AA37-C82F5E29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10F-9231-41B7-AA9C-C1F85FA3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F03-3F69-4137-8F62-B2D2A5B1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A8D-0A9D-44C8-8285-83A8339A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O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O" sz="427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823-E0FF-4084-8CAC-C914409D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14440" y="8331120"/>
            <a:ext cx="142848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_tradnl" sz="187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444F48-E8A3-41E6-AE0A-4135B1140259}" type="slidenum">
              <a:rPr b="0" lang="es-ES_tradnl" sz="187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7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1057320"/>
            <a:ext cx="6860160" cy="7009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Arc 7"/>
          <p:cNvSpPr/>
          <p:nvPr/>
        </p:nvSpPr>
        <p:spPr>
          <a:xfrm rot="2578800">
            <a:off x="-70560" y="3108960"/>
            <a:ext cx="2956320" cy="2927880"/>
          </a:xfrm>
          <a:custGeom>
            <a:avLst/>
            <a:gdLst>
              <a:gd name="textAreaLeft" fmla="*/ 0 w 2956320"/>
              <a:gd name="textAreaRight" fmla="*/ 2956680 w 2956320"/>
              <a:gd name="textAreaTop" fmla="*/ 0 h 2927880"/>
              <a:gd name="textAreaBottom" fmla="*/ 2928240 h 2927880"/>
            </a:gdLst>
            <a:ahLst/>
            <a:rect l="textAreaLeft" t="textAreaTop" r="textAreaRight" b="textAreaBottom"/>
            <a:pathLst>
              <a:path fill="none" w="21600" h="21640">
                <a:moveTo>
                  <a:pt x="21560" y="21639"/>
                </a:moveTo>
                <a:cubicBezTo>
                  <a:pt x="9646" y="21617"/>
                  <a:pt x="0" y="11953"/>
                  <a:pt x="0" y="40"/>
                </a:cubicBezTo>
                <a:cubicBezTo>
                  <a:pt x="-1" y="26"/>
                  <a:pt x="0" y="13"/>
                  <a:pt x="0" y="0"/>
                </a:cubicBezTo>
              </a:path>
              <a:path stroke="0" w="21600" h="21640">
                <a:moveTo>
                  <a:pt x="21560" y="21639"/>
                </a:moveTo>
                <a:cubicBezTo>
                  <a:pt x="9646" y="21617"/>
                  <a:pt x="0" y="11953"/>
                  <a:pt x="0" y="40"/>
                </a:cubicBezTo>
                <a:cubicBezTo>
                  <a:pt x="-1" y="26"/>
                  <a:pt x="0" y="13"/>
                  <a:pt x="0" y="0"/>
                </a:cubicBezTo>
                <a:lnTo>
                  <a:pt x="21600" y="40"/>
                </a:lnTo>
                <a:lnTo>
                  <a:pt x="21560" y="21639"/>
                </a:lnTo>
                <a:close/>
              </a:path>
            </a:pathLst>
          </a:custGeom>
          <a:solidFill>
            <a:srgbClr val="ff99cc"/>
          </a:solidFill>
          <a:ln w="63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Arc 5"/>
          <p:cNvSpPr/>
          <p:nvPr/>
        </p:nvSpPr>
        <p:spPr>
          <a:xfrm rot="2444400">
            <a:off x="3960360" y="2949480"/>
            <a:ext cx="2962800" cy="2905920"/>
          </a:xfrm>
          <a:custGeom>
            <a:avLst/>
            <a:gdLst>
              <a:gd name="textAreaLeft" fmla="*/ 0 w 2962800"/>
              <a:gd name="textAreaRight" fmla="*/ 2963160 w 2962800"/>
              <a:gd name="textAreaTop" fmla="*/ 0 h 2905920"/>
              <a:gd name="textAreaBottom" fmla="*/ 2906280 h 2905920"/>
            </a:gdLst>
            <a:ahLst/>
            <a:rect l="textAreaLeft" t="textAreaTop" r="textAreaRight" b="textAreaBottom"/>
            <a:pathLst>
              <a:path fill="none" w="21640" h="21600">
                <a:moveTo>
                  <a:pt x="0" y="0"/>
                </a:moveTo>
                <a:cubicBezTo>
                  <a:pt x="13" y="0"/>
                  <a:pt x="26" y="-1"/>
                  <a:pt x="40" y="0"/>
                </a:cubicBezTo>
                <a:cubicBezTo>
                  <a:pt x="11953" y="0"/>
                  <a:pt x="21617" y="9646"/>
                  <a:pt x="21639" y="21560"/>
                </a:cubicBezTo>
              </a:path>
              <a:path stroke="0" w="21640" h="21600">
                <a:moveTo>
                  <a:pt x="0" y="0"/>
                </a:moveTo>
                <a:cubicBezTo>
                  <a:pt x="13" y="0"/>
                  <a:pt x="26" y="-1"/>
                  <a:pt x="40" y="0"/>
                </a:cubicBezTo>
                <a:cubicBezTo>
                  <a:pt x="11953" y="0"/>
                  <a:pt x="21617" y="9646"/>
                  <a:pt x="21639" y="21560"/>
                </a:cubicBezTo>
                <a:lnTo>
                  <a:pt x="4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63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rc 6"/>
          <p:cNvSpPr/>
          <p:nvPr/>
        </p:nvSpPr>
        <p:spPr>
          <a:xfrm rot="2512800">
            <a:off x="2072880" y="5081760"/>
            <a:ext cx="2961000" cy="2912040"/>
          </a:xfrm>
          <a:custGeom>
            <a:avLst/>
            <a:gdLst>
              <a:gd name="textAreaLeft" fmla="*/ 0 w 2961000"/>
              <a:gd name="textAreaRight" fmla="*/ 2961360 w 2961000"/>
              <a:gd name="textAreaTop" fmla="*/ 0 h 2912040"/>
              <a:gd name="textAreaBottom" fmla="*/ 2912400 h 2912040"/>
            </a:gdLst>
            <a:ahLst/>
            <a:rect l="textAreaLeft" t="textAreaTop" r="textAreaRight" b="textAreaBottom"/>
            <a:pathLst>
              <a:path fill="none" w="21640" h="21640">
                <a:moveTo>
                  <a:pt x="21639" y="0"/>
                </a:moveTo>
                <a:cubicBezTo>
                  <a:pt x="21639" y="13"/>
                  <a:pt x="21640" y="26"/>
                  <a:pt x="21640" y="40"/>
                </a:cubicBezTo>
                <a:cubicBezTo>
                  <a:pt x="21640" y="11969"/>
                  <a:pt x="11969" y="21640"/>
                  <a:pt x="40" y="21640"/>
                </a:cubicBezTo>
                <a:cubicBezTo>
                  <a:pt x="26" y="21640"/>
                  <a:pt x="13" y="21639"/>
                  <a:pt x="0" y="21639"/>
                </a:cubicBezTo>
              </a:path>
              <a:path stroke="0" w="21640" h="21640">
                <a:moveTo>
                  <a:pt x="21639" y="0"/>
                </a:moveTo>
                <a:cubicBezTo>
                  <a:pt x="21639" y="13"/>
                  <a:pt x="21640" y="26"/>
                  <a:pt x="21640" y="40"/>
                </a:cubicBezTo>
                <a:cubicBezTo>
                  <a:pt x="21640" y="11969"/>
                  <a:pt x="11969" y="21640"/>
                  <a:pt x="40" y="21640"/>
                </a:cubicBezTo>
                <a:cubicBezTo>
                  <a:pt x="26" y="21640"/>
                  <a:pt x="13" y="21639"/>
                  <a:pt x="0" y="21639"/>
                </a:cubicBezTo>
                <a:lnTo>
                  <a:pt x="40" y="40"/>
                </a:lnTo>
                <a:lnTo>
                  <a:pt x="21639" y="0"/>
                </a:lnTo>
                <a:close/>
              </a:path>
            </a:pathLst>
          </a:custGeom>
          <a:solidFill>
            <a:srgbClr val="92d050"/>
          </a:solidFill>
          <a:ln w="63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92d050"/>
              </a:solidFill>
              <a:latin typeface="Times New Roman"/>
            </a:endParaRPr>
          </a:p>
        </p:txBody>
      </p:sp>
      <p:sp>
        <p:nvSpPr>
          <p:cNvPr id="43" name="Arc 8"/>
          <p:cNvSpPr/>
          <p:nvPr/>
        </p:nvSpPr>
        <p:spPr>
          <a:xfrm rot="2605800">
            <a:off x="1878840" y="1063080"/>
            <a:ext cx="2958840" cy="2905920"/>
          </a:xfrm>
          <a:custGeom>
            <a:avLst/>
            <a:gdLst>
              <a:gd name="textAreaLeft" fmla="*/ 0 w 2958840"/>
              <a:gd name="textAreaRight" fmla="*/ 2959200 w 2958840"/>
              <a:gd name="textAreaTop" fmla="*/ 0 h 2905920"/>
              <a:gd name="textAreaBottom" fmla="*/ 2906280 h 29059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60"/>
                </a:moveTo>
                <a:cubicBezTo>
                  <a:pt x="22" y="9661"/>
                  <a:pt x="9661" y="22"/>
                  <a:pt x="21560" y="0"/>
                </a:cubicBezTo>
              </a:path>
              <a:path stroke="0" w="21600" h="21600">
                <a:moveTo>
                  <a:pt x="0" y="21560"/>
                </a:moveTo>
                <a:cubicBezTo>
                  <a:pt x="22" y="9661"/>
                  <a:pt x="9661" y="22"/>
                  <a:pt x="21560" y="0"/>
                </a:cubicBezTo>
                <a:lnTo>
                  <a:pt x="21600" y="21600"/>
                </a:lnTo>
                <a:lnTo>
                  <a:pt x="0" y="21560"/>
                </a:lnTo>
                <a:close/>
              </a:path>
            </a:pathLst>
          </a:custGeom>
          <a:solidFill>
            <a:srgbClr val="ffff00"/>
          </a:solidFill>
          <a:ln w="63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9"/>
          <p:cNvSpPr/>
          <p:nvPr/>
        </p:nvSpPr>
        <p:spPr>
          <a:xfrm rot="21444000">
            <a:off x="2842560" y="3956400"/>
            <a:ext cx="1218960" cy="12189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BaskervilleT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1955880" y="1186200"/>
            <a:ext cx="2945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6327360" y="2430000"/>
            <a:ext cx="50760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213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1035720" y="111960"/>
            <a:ext cx="4670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pendix 1.1: For Removal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LDH Circle for Bahá’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5"/>
          <p:cNvSpPr/>
          <p:nvPr/>
        </p:nvSpPr>
        <p:spPr>
          <a:xfrm>
            <a:off x="1527120" y="2791440"/>
            <a:ext cx="3758760" cy="3555720"/>
          </a:xfrm>
          <a:prstGeom prst="ellipse">
            <a:avLst/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O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3007440" y="1823760"/>
            <a:ext cx="7999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3989520" y="2265120"/>
            <a:ext cx="10407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Huqúqu’lláh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Funds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1578960" y="2154240"/>
            <a:ext cx="1609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Holy Days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Devotional Meetings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19 Day Feasts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2943000" y="2960640"/>
            <a:ext cx="92628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Fasting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Prayer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Meditatio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Deepening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702000" y="3688560"/>
            <a:ext cx="78912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- Friends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511560" y="4304520"/>
            <a:ext cx="99180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- Bahá’í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1107000" y="5792040"/>
            <a:ext cx="78912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- Societ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4923720" y="3119400"/>
            <a:ext cx="79380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7"/>
          <p:cNvSpPr/>
          <p:nvPr/>
        </p:nvSpPr>
        <p:spPr>
          <a:xfrm>
            <a:off x="5245200" y="4294080"/>
            <a:ext cx="10940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Vocational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8"/>
          <p:cNvSpPr/>
          <p:nvPr/>
        </p:nvSpPr>
        <p:spPr>
          <a:xfrm>
            <a:off x="5158800" y="5425560"/>
            <a:ext cx="85932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Creativit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4430520" y="6326280"/>
            <a:ext cx="67176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Budget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3129120" y="6760440"/>
            <a:ext cx="554400" cy="2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1"/>
          <p:cNvSpPr/>
          <p:nvPr/>
        </p:nvSpPr>
        <p:spPr>
          <a:xfrm>
            <a:off x="1908000" y="6286680"/>
            <a:ext cx="7664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Care of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2"/>
          <p:cNvSpPr/>
          <p:nvPr/>
        </p:nvSpPr>
        <p:spPr>
          <a:xfrm>
            <a:off x="3093480" y="5163840"/>
            <a:ext cx="80424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Hygien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Rest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1546560" y="4078440"/>
            <a:ext cx="137304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r>
              <a:rPr b="1" lang="es-ES_tradnl" sz="134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- Self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- Natur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- Spouse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- Childre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- Famil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5"/>
          <p:cNvSpPr/>
          <p:nvPr/>
        </p:nvSpPr>
        <p:spPr>
          <a:xfrm>
            <a:off x="3864240" y="4059720"/>
            <a:ext cx="1458360" cy="11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Meditatio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Goal-Setting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405360" y="8259480"/>
            <a:ext cx="6080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Bahá’í Life in Dynamic Harm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8"/>
          <p:cNvSpPr/>
          <p:nvPr/>
        </p:nvSpPr>
        <p:spPr>
          <a:xfrm>
            <a:off x="684720" y="5038920"/>
            <a:ext cx="99180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- Work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34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3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9"/>
          <p:cNvSpPr/>
          <p:nvPr/>
        </p:nvSpPr>
        <p:spPr>
          <a:xfrm>
            <a:off x="34920" y="3608280"/>
            <a:ext cx="5076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0"/>
          <p:cNvSpPr/>
          <p:nvPr/>
        </p:nvSpPr>
        <p:spPr>
          <a:xfrm>
            <a:off x="810720" y="3114720"/>
            <a:ext cx="1206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mun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2602800" y="7527600"/>
            <a:ext cx="1685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66"/>
              </a:spcBef>
              <a:spcAft>
                <a:spcPts val="666"/>
              </a:spcAf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3" descr="letra B"/>
          <p:cNvPicPr/>
          <p:nvPr/>
        </p:nvPicPr>
        <p:blipFill>
          <a:blip r:embed="rId1"/>
          <a:stretch/>
        </p:blipFill>
        <p:spPr>
          <a:xfrm>
            <a:off x="3242520" y="443880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  <Words>101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0T15:59:55Z</dcterms:created>
  <dc:creator>Pc</dc:creator>
  <dc:description/>
  <dc:language>en-US</dc:language>
  <cp:lastModifiedBy>Keith Bookwalter</cp:lastModifiedBy>
  <dcterms:modified xsi:type="dcterms:W3CDTF">2025-03-28T17:16:42Z</dcterms:modified>
  <cp:revision>1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Letter Paper (8.5x11 in)</vt:lpwstr>
  </property>
  <property fmtid="{D5CDD505-2E9C-101B-9397-08002B2CF9AE}" pid="3" name="Slides">
    <vt:r8>1</vt:r8>
  </property>
</Properties>
</file>